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1BAE-05A2-43B5-BDFF-79AC28613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Carter – Is this a direct quote from somewhere? If so, we need citations information; AUTHOR, TITLE, YEAR,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33F-3AC3-4FA6-BF68-E0BD8268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A95-87C4-4A20-8A74-6F266560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9EF-2F62-4001-8030-5A2ED198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657-3754-4C4F-A588-56BAB04D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69A-05F3-427B-B3FB-0D104FAA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4E7-53A7-4795-8EA8-E8B0FC7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7E5-E04B-4C05-843D-E28368BE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382-2498-4E33-B83A-82640A08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CD8-06CA-4412-B0A4-75E399B0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55D-75A1-4E31-BC3F-791174B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B7B-A1C7-4F24-93C3-3B448013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02B-9608-47C5-B635-D62EEC6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D8B1-5D3D-473B-88E0-D28618992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mailto:LCart99@aol.co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057400"/>
            <a:ext cx="8991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otal Instructional Alignment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ng, Designing, and Align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ducational Systems for Learning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C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 Standards stifle creativ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 The new mission of schools, compulsory “learning for all”, can be delivered in the old system of compulsory “attendance for all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m the standard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teachers will figure it all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514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chool or school district can “do” Instructional Alignment during a summer worksh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980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extbook is my curricul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9140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ep Understand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Instructional Alignment ensures equity in learning opportunities for all students through alignment of standards, curriculum, assessment, and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5438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9718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making sure that what we are teaching, what we are assessing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 are teaching are congru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Total Instructional Align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hree Domains of Total Instructional Al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146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standards, curricul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instruction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60840" y="430200"/>
            <a:ext cx="3911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ignment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ive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685800"/>
            <a:ext cx="152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6858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81080" y="11430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1600200"/>
            <a:ext cx="381240" cy="533520"/>
          </a:xfrm>
          <a:custGeom>
            <a:avLst/>
            <a:gdLst>
              <a:gd name="textAreaLeft" fmla="*/ 51120 w 381240"/>
              <a:gd name="textAreaRight" fmla="*/ 330120 w 38124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1337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66688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200400"/>
            <a:ext cx="381240" cy="533520"/>
          </a:xfrm>
          <a:custGeom>
            <a:avLst/>
            <a:gdLst>
              <a:gd name="textAreaLeft" fmla="*/ 51120 w 381240"/>
              <a:gd name="textAreaRight" fmla="*/ 330120 w 38124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7339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267080"/>
            <a:ext cx="457200" cy="60984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800600"/>
            <a:ext cx="457200" cy="60948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9520" y="455760"/>
            <a:ext cx="196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9 9 9 9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1 1 1 1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685800"/>
            <a:ext cx="50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ignment of the System Through Horizonta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38862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2666880"/>
            <a:ext cx="472428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2400" y="27432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7440" y="1886040"/>
            <a:ext cx="68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-857160"/>
            <a:ext cx="7925040" cy="76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ningful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s a difference and has a positive impact on student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Conditions of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4120" y="455760"/>
            <a:ext cx="577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33520"/>
            <a:ext cx="50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ignment of the System Through Vertica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590920"/>
            <a:ext cx="47242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2400" y="2743200"/>
            <a:ext cx="26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6094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743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895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3352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96440" y="2550960"/>
            <a:ext cx="6858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28600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590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200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876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5334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638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5791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486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5638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4648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5638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334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943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762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1143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1295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600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1752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33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533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9907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447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1905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648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5638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4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5791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5029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18680" y="4837320"/>
            <a:ext cx="838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20120" y="1101960"/>
            <a:ext cx="838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4956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858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14400" y="1143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ep Understanding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time structures through flexible scheduling and grouping practices ensures students the opportunity to learn based on their unique learning clo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117440" y="1886040"/>
            <a:ext cx="68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152280"/>
            <a:ext cx="9144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 We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Time affects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chools were never designed t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 all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92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8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762120"/>
            <a:ext cx="9144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search of John Carro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titude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ee of learning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3048120" y="48769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ffects Time Sp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ention s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y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ffects Time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of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0323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We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come to us with a variance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ledge and skill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learn at different ra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is an incremental pro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83808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students for instruction based on chronological 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all students the same amount of time to learn the same amount of cont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2514600"/>
            <a:ext cx="0" cy="354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13680" y="2514600"/>
            <a:ext cx="0" cy="354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9120" y="118908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ebr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lish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8320" y="1112760"/>
            <a:ext cx="19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ebr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lish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62908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291456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4720" y="320040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2880" y="348624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382896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2880" y="428616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40160" y="4572000"/>
            <a:ext cx="538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97196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533412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5791320"/>
            <a:ext cx="53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0628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ignment of th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6248520"/>
            <a:ext cx="528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560" y="571176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0320" y="2400480"/>
            <a:ext cx="5283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11680" y="182556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9480" y="2282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8600" y="251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03880" y="2816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8760" y="3121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8760" y="38829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75280" y="4187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7200" y="4568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5960" y="4950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75280" y="5407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0440" y="51055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40384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0" y="3200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2880" y="2971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120" y="26668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840" y="4724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5360" y="35812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240" y="43434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79760" y="5562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5000" y="23623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5800" y="3425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621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chool of Horace 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MPj04011260000[1]"/>
          <p:cNvPicPr/>
          <p:nvPr/>
        </p:nvPicPr>
        <p:blipFill>
          <a:blip r:embed="rId1"/>
          <a:stretch/>
        </p:blipFill>
        <p:spPr>
          <a:xfrm>
            <a:off x="2971800" y="1752480"/>
            <a:ext cx="3319560" cy="41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Work of Professional Learning Communities and T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at we want our students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we know they have learned and learned w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we respond to those students who have not lear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we challenge those that have lear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chool of Horace 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60020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 100 years 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t around the agrarian 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ed after the 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size fits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8580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our Circle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"/>
          <p:cNvSpPr/>
          <p:nvPr/>
        </p:nvSpPr>
        <p:spPr>
          <a:xfrm>
            <a:off x="2209680" y="1295280"/>
            <a:ext cx="441972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2743200" y="2057400"/>
            <a:ext cx="335268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3505320" y="2895480"/>
            <a:ext cx="1828800" cy="175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426480" y="1676520"/>
            <a:ext cx="18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Schoo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580200" y="23623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ademic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505320" y="3429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-Lear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1676520" y="685800"/>
            <a:ext cx="5410080" cy="556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197520" y="914400"/>
            <a:ext cx="20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ded Schoo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4343400" y="3808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640480" y="685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478560" y="1600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7012080" y="312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678348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6174000" y="548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4421160" y="624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266868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17542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1373400" y="3200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1677960" y="1828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2439720" y="914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8"/>
          <p:cNvSpPr/>
          <p:nvPr/>
        </p:nvSpPr>
        <p:spPr>
          <a:xfrm>
            <a:off x="4419720" y="33526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9"/>
          <p:cNvSpPr/>
          <p:nvPr/>
        </p:nvSpPr>
        <p:spPr>
          <a:xfrm flipV="1">
            <a:off x="4449600" y="1902960"/>
            <a:ext cx="1949760" cy="1464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g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638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380880"/>
            <a:ext cx="74674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ol Independent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ol Dependent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895480"/>
            <a:ext cx="193068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895480"/>
            <a:ext cx="1930680" cy="184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4038480"/>
            <a:ext cx="1930680" cy="184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31520" y="31543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9080" y="31543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6240" y="46782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78920" y="3967200"/>
            <a:ext cx="26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0077200">
            <a:off x="3344400" y="4138200"/>
            <a:ext cx="1295640" cy="457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5334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66880" y="1905120"/>
            <a:ext cx="3353040" cy="3733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9600" y="17524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6240" y="3425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16960" y="2511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685800"/>
            <a:ext cx="791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tal Instructional Al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78920" y="3967200"/>
            <a:ext cx="26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095880" y="3733920"/>
            <a:ext cx="914400" cy="34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2514600"/>
            <a:ext cx="2362320" cy="26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12952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838080"/>
            <a:ext cx="81532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innovation you bring into the classroom or school to improve outcomes on student assessment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presu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there is already alignment of the intended (curriculum), taught (instruction), and tested (evaluation) objectives. The innovation itself will not improve outcomes if alignment does not exi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rilling Deeper: TIA Tools and Processes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12880" y="1085760"/>
            <a:ext cx="7570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order to successfully align instruction, teachers need tools, processes, time, materials, resources, and support!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Implementation of TIA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sential Alignment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gruence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-based/objective-bas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-orde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analysis to determine essential knowledge and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ongoing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instruc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tal Instructional Alig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25440"/>
            <a:ext cx="8229600" cy="26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n Common My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3040" y="1219320"/>
            <a:ext cx="84330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828800"/>
            <a:ext cx="84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1219320"/>
            <a:ext cx="2520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066680"/>
            <a:ext cx="923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        Benchmark              Criterion-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 SLE            Referenced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91240" y="988920"/>
            <a:ext cx="167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-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371600"/>
            <a:ext cx="33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960" y="6172200"/>
            <a:ext cx="1625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304920"/>
            <a:ext cx="49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gruenc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Grade Level o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1219320"/>
            <a:ext cx="0" cy="497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1219320"/>
            <a:ext cx="0" cy="497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s-Based/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-Based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5257800" cy="5003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324480" y="533520"/>
            <a:ext cx="2210040" cy="2209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3352680"/>
            <a:ext cx="2210040" cy="2210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990720"/>
            <a:ext cx="1447560" cy="1371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371600"/>
            <a:ext cx="609480" cy="609480"/>
          </a:xfrm>
          <a:prstGeom prst="ellipse">
            <a:avLst/>
          </a:prstGeom>
          <a:solidFill>
            <a:srgbClr val="d62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4191120"/>
            <a:ext cx="609480" cy="609480"/>
          </a:xfrm>
          <a:prstGeom prst="ellipse">
            <a:avLst/>
          </a:prstGeom>
          <a:solidFill>
            <a:srgbClr val="d62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809880"/>
            <a:ext cx="1447560" cy="1371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22860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gher-Order Thinking</a:t>
            </a:r>
            <a:br>
              <a:rPr sz="7200"/>
            </a:br>
            <a:br>
              <a:rPr sz="7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sed Blooms’ Taxono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6480" y="457200"/>
            <a:ext cx="72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 – Z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720" y="29718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360" y="5029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21680" y="16765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6960" y="16765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7840" y="32004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5440" y="4913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16040" y="32004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16040" y="32004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16760" y="3200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7120" y="32004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Alignment and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al Alignment 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 synonym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38080" y="1143000"/>
            <a:ext cx="72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rner will demonstrate a knowledge of mammals by listing three characteristics of mam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27280" y="2133720"/>
            <a:ext cx="6502320" cy="375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2133720"/>
            <a:ext cx="50760" cy="37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4267080"/>
            <a:ext cx="650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17480" y="32004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93840" y="3200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83560" y="4913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41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456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41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5088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39830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267080" y="3983040"/>
            <a:ext cx="1625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44197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4680" y="45720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21337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29520" y="4267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-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82200" y="220968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r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8880" y="42670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286000" y="3352680"/>
            <a:ext cx="4876920" cy="28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622400" y="3352680"/>
            <a:ext cx="25560" cy="285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9528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06480" y="-380880"/>
            <a:ext cx="731556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havioral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a well-balanced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el the parts of a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e any two fractions using &gt;,&lt; or =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stify the actions of a story charac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model of the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three causes of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 ten addition problems (two digits added to two digits with regroup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 between obedience and conformation in the judging of do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74640" y="34290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713280" y="34290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22360" y="50450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62520" y="50450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sk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92880" y="1752480"/>
            <a:ext cx="7031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th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essential l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in the order of 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use correct form to swim freestyle without assistance a distance of 50 yards across the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09480"/>
            <a:ext cx="762012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.S.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interpret economic, social, and political trends of the late 19th and early 20th centu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vanced M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earner will find the zeroes, vertical asymptotes, and horizontal asymptotes of a basic function or a rational function through analysis of the polynomials in the numerator and denominator and sketch the graph of a rational function labeling the horizontal and vertical asymptotes and the x- and y- intercep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write a literary analysis to show understanding of repetition, mood/tone, maxims, anecdotes, and figurative language in Chinese and Japanese poe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ary M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tell time to the hour, half hour, and quarter h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388800"/>
          <a:ext cx="8763120" cy="63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8800"/>
                    <a:ext cx="8763120" cy="63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-152280" y="0"/>
          <a:ext cx="92962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0"/>
                    <a:ext cx="9296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Instructional Alignment 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encouraging teachers to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“teach the tes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04920" y="304920"/>
          <a:ext cx="845820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4582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ole of Formative Assessment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 and Adjust Based o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391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ep Understand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appropriate remediation and enrichment opportunities aligned to individual student needs ensures student learning succes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fective Schools Are Data Driven and Results Oriented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1219320"/>
            <a:ext cx="7721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ffective school, student academic progress is measured frequently using a variety of assessment procedures. The results of the assessments are used to improve individual student performance and to improve the overall instruction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s monitor student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onitor their ow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Ways to View Assessment</a:t>
            </a:r>
            <a:br>
              <a:rPr sz="36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2571840"/>
            <a:ext cx="7721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16765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o assist in the sort and select mission of th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hat helps us gain invaluable information about student learning and allows us to make better instructional deci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11920" y="304920"/>
            <a:ext cx="474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Traditional Class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11360" y="2362320"/>
            <a:ext cx="111744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28800" y="1981080"/>
            <a:ext cx="111744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46240" y="1371600"/>
            <a:ext cx="10922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24480" y="685800"/>
            <a:ext cx="11178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71920" y="11509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79880" y="9795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7840" y="8082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7280" y="28195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50280" y="22287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167720" y="188604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0-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400" y="8571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"/>
          <p:cNvCxnSpPr/>
          <p:nvPr/>
        </p:nvCxnSpPr>
        <p:spPr>
          <a:xfrm flipH="1" rot="16200000">
            <a:off x="1619280" y="2800080"/>
            <a:ext cx="7668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"/>
          <p:cNvSpPr/>
          <p:nvPr/>
        </p:nvSpPr>
        <p:spPr>
          <a:xfrm>
            <a:off x="3131280" y="282888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est or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cord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2571840"/>
            <a:ext cx="26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97760" y="22287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026560" y="22287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807240" y="205740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416720" y="205740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90520" y="257976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01440" y="25797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08760" y="262908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18240" y="2629080"/>
            <a:ext cx="7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26560" y="2629080"/>
            <a:ext cx="73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7960" y="4800600"/>
            <a:ext cx="1117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25760" y="4495680"/>
            <a:ext cx="111744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4191120"/>
            <a:ext cx="11174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5880" y="3200400"/>
            <a:ext cx="1117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68520" y="40086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76480" y="38368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4440" y="36655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07040" y="54579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80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6880" y="508644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80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64680" y="47433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80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17360" y="371484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80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/>
          <p:nvPr/>
        </p:nvCxnSpPr>
        <p:spPr>
          <a:xfrm flipH="1" rot="16200000">
            <a:off x="1390680" y="7219440"/>
            <a:ext cx="7668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2672280" y="556272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mative 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7920" y="542916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994360" y="520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02320" y="520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23160" y="491508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13680" y="491508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87480" y="54370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8400" y="54370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05720" y="5486400"/>
            <a:ext cx="5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5486400"/>
            <a:ext cx="7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23160" y="5486400"/>
            <a:ext cx="7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"/>
          <p:cNvCxnSpPr/>
          <p:nvPr/>
        </p:nvCxnSpPr>
        <p:spPr>
          <a:xfrm flipH="1" rot="16200000">
            <a:off x="1313640" y="7486560"/>
            <a:ext cx="38160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522160" y="58644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eco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97160" y="5638680"/>
            <a:ext cx="50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22360" y="617220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70600" y="600876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rrective or Enric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51000" y="594360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. Thomas Gus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mplementing Mastery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5715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23880" y="5715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2362320"/>
            <a:ext cx="15228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1981080"/>
            <a:ext cx="152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315200" y="685800"/>
            <a:ext cx="152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137160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480060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480060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4495680"/>
            <a:ext cx="15228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590920" y="4495680"/>
            <a:ext cx="15228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9000" y="419112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419112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81680" y="3200400"/>
            <a:ext cx="15264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86600" y="3200400"/>
            <a:ext cx="1522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069560" y="412920"/>
            <a:ext cx="659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astery Learn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39960" y="3181320"/>
            <a:ext cx="1422360" cy="1390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Un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358128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124080" y="3352680"/>
            <a:ext cx="1016280" cy="857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35812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00600" y="3276720"/>
            <a:ext cx="1320840" cy="933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944880" y="2815200"/>
            <a:ext cx="594000" cy="39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229880" y="2815200"/>
            <a:ext cx="22320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34320" y="1295280"/>
            <a:ext cx="1422360" cy="1428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it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05720" y="3352680"/>
            <a:ext cx="1015920" cy="857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97560" y="2057400"/>
            <a:ext cx="15238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ric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22960" y="249552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510552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r. Thomas Gus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mplementing Mastery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adership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a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28 Lakeshore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Mills, NC 283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0.424.3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0.987.1234 (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Cart99@ao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otalInstructionalAlignmen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248520" y="2286000"/>
            <a:ext cx="2036520" cy="2544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we hold our breath, th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ability thing will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 a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novations, in and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selves, can improve resul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student assessment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s and expect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 synony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2:36:58Z</dcterms:created>
  <dc:creator>Lisa Waring</dc:creator>
  <dc:description/>
  <dc:language>en-US</dc:language>
  <cp:lastModifiedBy>Lisa Carter Waring</cp:lastModifiedBy>
  <dcterms:modified xsi:type="dcterms:W3CDTF">2009-06-10T23:44:37Z</dcterms:modified>
  <cp:revision>9</cp:revision>
  <dc:subject/>
  <dc:title>Slide 1</dc:title>
</cp:coreProperties>
</file>